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982-7D79-4B78-AD7E-D28D710E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822-D38B-41F8-9994-FEE2EAEE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EE18A-DE5E-4B36-AAF5-8B15D983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8BB72-B3A5-4845-A51D-7FF77E55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E844F-E102-4534-95A5-CCA7BE3E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E8E0F-7794-47CE-92F7-367A878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F8048-E318-4871-B2AF-CA8EDAE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594C1-5388-4008-97D7-AD4955AE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972CC-A62E-4736-A260-8DCE4AAB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62496-5510-4802-873E-43C128DC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7DAC4-1165-49E7-9A3B-6FE27D03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1E940-409C-4694-BE0C-3DE6DF74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739-73C0-4299-AE72-BDF9D766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D9B43-A461-4D0E-B4D2-91DA0B24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BB754-5653-417B-8016-7B6C8DF0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19260-772B-4806-9316-1938BDC6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AFED7-706E-4A06-812A-8F204399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CD0D1-2891-4BC8-AF88-8795FD2B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68EA9-B586-425D-A22C-92C8120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99B5C-B4E0-44E4-8E5B-86E11B02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3670B-EF71-418F-ABCA-28D1606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C1CC3-C33E-4BD1-B845-102D5DF2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38BAC-6C31-4615-B920-143702CE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275-CCD0-4091-8E53-6A98340E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A0A1A-5E76-4593-AC39-8EF378D4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E0CD1-6265-4C0A-9B29-8E735330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EBF72-51CF-4A59-9DCC-20F8A96F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43373-2531-4478-A469-A1222DFE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5FF18-ED1D-4E03-A240-10BDBC68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B9C5F-B51A-4AC4-A53A-32F6B2EC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76BAA-A340-4FEA-B083-55D0CC9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69711-B4AD-44EB-8BB4-CCDEDB51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77746-9184-4178-8512-38749B33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7BE31-E9D6-4CC8-B747-B518F7E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8B56-E47E-4E2B-911C-5363F4CD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7A5DE-74E0-479B-89E1-6F056AF9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84733-310D-4F7E-9B38-CE5FB4DB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3B5F0-8B47-46F6-BCF2-3DBE1A73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C8092-E818-40DC-8260-85DB97CF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DDDD6-1AB9-42A7-BA73-3581FC96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190BA-509B-4E41-882A-F0851B51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C6A57-632B-40A7-87EC-5824714E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6C0C9-7ABD-41AA-B5E6-BD46FDBA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C5F5F-2C98-4864-87A6-EB12F892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E2C5D-33BE-40D9-A88D-828E0417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CAFC-C4DE-43CD-9D6C-B746568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B5474-6BC8-45D9-B00B-B88EF2A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73F5E-E4EB-4395-934F-F76F55B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893D6-4B3A-4495-8FBB-D209EC3E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A3AF6-A435-4261-89D2-1752B026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9563D-EE64-4327-8947-176B15AF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0431-FC4C-4612-A4C7-D0E1A0C8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D305-E113-4619-A96F-E0B6B4DF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9CCE-E47D-422F-A32B-4E4761CB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01C6-9628-47FD-8832-3A0612EB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CAC4-E291-4678-B50C-4AD72146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3E9-5FD2-4460-A6A0-B82EB036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89FD-ADB4-455E-B3C8-63035A44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3D07-F925-4702-8E6B-999A770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C851-8EE9-4732-B676-B2973987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62CA-30E2-4EE1-8EB5-844183DA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4DE0-1CE4-4302-9512-04D88A0C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9298-87ED-461B-A443-248ED2F6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B0B5-911F-4819-844C-0F5E143A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7622-ACA7-4F1D-B006-8073425C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EF33-9B53-4272-9B0C-CFD75B4A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0182-AAA7-4AAB-8B9A-4645EF20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7D2-DF9F-4FA8-9605-9D971599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CBABF-CEB3-43B5-8CB8-085ED171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6DCF-79FA-40DA-94D3-66C79EE5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9AF4-E723-4FD6-B8A0-366BE609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748C-3A56-4956-ABE5-00ACA94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6BF1-7D0E-4283-BC56-034C6710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2852-0AC6-4285-B6FC-9339BEB0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71B3-E16D-4F4E-AE49-B5696415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C34A-8B9D-43A5-9964-105A8BDD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23654-FA0B-4321-A4E6-C07F4EB2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D6945-2C87-430F-AABA-6097156C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65B-BAA8-451A-AE43-88EA491E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0418-B3CB-4B36-B23D-0452B7AD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CA14-B64E-4A65-89DB-EDB4199D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14F5-0E78-48CE-8791-9524B327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2957-C6F2-4EEB-8855-3B4B49BD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D554-3079-43EB-B0B4-8524D2B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64A3-6B23-4674-95FA-A3BD0328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0C5B7-921F-4EBF-9D23-A337940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FBED-4F4B-4AD1-8F30-DD84B9CE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E2B6-2F76-4E1D-AD4B-7D8D1912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81C45-8B5D-4ECF-8521-21B9329E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7FB-92DE-40ED-9052-6265FACD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045D2-4FD0-4AD5-9AAF-C772F392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A97BD-F9E8-409B-907E-9CC7AC0C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C80A2-7283-458C-A0ED-90D0AA80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F9E6-165E-41BA-A4D2-10334206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3D15B-B09D-4553-B84D-3DD93AFF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87AD7-9FAC-4B4D-8014-7B24D25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EDF4C-9897-4E5C-A4E1-C7FDED92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866B-E53B-4D8D-A053-6669504C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712F-0A8B-421D-AD53-90687B98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B9D08-E0D3-47CA-B64D-2D9B11A6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D07-75ED-4D48-A695-90C31B05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D631E-55B3-4768-AA26-4F28CCD2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10B5-D4FB-46DE-8628-4BB0C4AD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9187-7A5E-42E9-BBA1-38F01152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A7E39-4CE1-4BE4-947F-2184CC91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A7FE3-8C43-4A69-8F54-B71D6FD7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842D6-CB97-46A3-A14B-37AA8ABE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62D6-6D8B-4AAE-8493-DE9B8CE1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49AC-1D85-4BCC-8A5E-A344424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D3FD8-742C-4586-B2C5-68DE1671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0C5A9-A990-417E-A24F-0F81076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D1A-8839-4E5B-AD67-6CAD6EF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5C33-D3A7-4A66-8739-0817B6DF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7FA7-A940-44EB-A345-B18A014C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2DB4C-0D98-428B-ABB5-CDF430C7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4BF1E-6889-4E7C-9F38-9B602A58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B69FC-288F-40C0-8EFA-25AACD84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AA142-8B73-4324-BEF8-EA890436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5E626-B088-45D2-BE11-63CE5665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DDDCA-2CCA-435C-B7E3-9EEC63A8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56E35-58D6-410B-A01F-67E094FB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B5F44-568F-493D-9E8C-68EDF873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607-C1E0-4F60-A738-A095E699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0792A-F23A-48D8-9FEB-24F628C8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0D43E-E969-40F2-BAA4-EDF29580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0B16E-5E38-4D2D-A4C6-362D657D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8BD98-F1B3-4209-B20D-3CA6ADCD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0626C-548C-443F-94E4-A07BE91B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C650C-32E3-4376-8605-7DD86C8A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E09DE-3147-4683-9E46-B096DFBB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082AF-C640-4392-ADC9-B07D5859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FC5F3-4EFB-495D-AF17-EBE6C947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56129-B2A0-49EA-A50B-D741B1BF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F18-F01F-4DF3-86D8-A6D17658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B4708-0E67-48CD-956D-9F60B3F5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55F2-17AD-49FD-9320-E14E782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964B9-8D31-44F0-8A31-E9DD57F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05AA2-7D5F-4CB0-8465-1DDC5984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0DBEE-99BB-4F5B-9216-5C9D544B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A91BA-485E-4FF5-8DEE-AA9EBD77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88EA-FDCE-45C4-9AE5-38240BF6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A554A-8127-4DFB-B22E-D8D3C2AC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A57C8-796B-4752-AD90-74DBFF93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C6593-8638-44C4-930E-DB95DF4D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420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9421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9421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9421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9421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9421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9421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5601-560C-4D82-908A-86361DC235B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BDD5-CAF2-45B2-A8DF-BE9471485E4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5206-AB28-448E-AE69-BF48CCFE5FC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692B-3AC6-463D-A15E-C38A5907314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9523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9523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9523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9523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9523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9523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9523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5D6D-AD58-435A-A95A-0C4EACFAE81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0B8C-73C1-456D-BC4E-DF496FC1D0C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6C8-979E-4842-AD07-99B44E27BD0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6AE2-1115-4647-8E3C-66AE668CF81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DCFB-0D4F-4092-8365-E983F795A71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B65C-6D9F-4F8C-9932-65A0BFFDF86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61C4-C620-4AD4-9B9C-06E6C8976EC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CE44-335C-4A7B-B6C2-E11C2CA6AFB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8193" descr="将相和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文本框 30725"/>
          <p:cNvSpPr/>
          <p:nvPr/>
        </p:nvSpPr>
        <p:spPr>
          <a:xfrm>
            <a:off x="3660840" y="351000"/>
            <a:ext cx="257796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 Narrow"/>
                <a:ea typeface="宋体"/>
              </a:rPr>
              <a:t>一、教学要求 ：</a:t>
            </a:r>
            <a:br>
              <a:rPr sz="3200"/>
            </a:b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理解课文内容，从蔺相如为了国家利益，对敌不畏强暴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机智勇敢，对友胸怀宽广、忍辱退让的好品质中受到启发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和教育。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在理解课文内容的基础上，从课文中找到依据评价人物。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学习本课的生字新词，理解重点词语的意思。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复述“负荆请罪”这个故事。 </a:t>
            </a:r>
            <a:br>
              <a:rPr sz="2400"/>
            </a:b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 Narrow"/>
                <a:ea typeface="宋体"/>
              </a:rPr>
              <a:t>二、教学重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 Narrow"/>
                <a:ea typeface="宋体"/>
              </a:rPr>
              <a:t>：</a:t>
            </a:r>
            <a:br>
              <a:rPr sz="3200"/>
            </a:b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理解三个故事的原因和结果。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．了解三个故事之间的联系。 </a:t>
            </a:r>
            <a:br>
              <a:rPr sz="2400"/>
            </a:br>
            <a:br>
              <a:rPr sz="2400"/>
            </a:b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64513" descr="将相和封面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文本框 64514"/>
          <p:cNvSpPr/>
          <p:nvPr/>
        </p:nvSpPr>
        <p:spPr>
          <a:xfrm>
            <a:off x="6319080" y="1069920"/>
            <a:ext cx="18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将”指  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相”指  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文本框 64511"/>
          <p:cNvSpPr/>
          <p:nvPr/>
        </p:nvSpPr>
        <p:spPr>
          <a:xfrm>
            <a:off x="7589520" y="206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蔺相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文本框 64512"/>
          <p:cNvSpPr/>
          <p:nvPr/>
        </p:nvSpPr>
        <p:spPr>
          <a:xfrm>
            <a:off x="7639200" y="907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廉颇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直接连接符 64515"/>
          <p:cNvSpPr/>
          <p:nvPr/>
        </p:nvSpPr>
        <p:spPr>
          <a:xfrm>
            <a:off x="7380360" y="1628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直接连接符 64516"/>
          <p:cNvSpPr/>
          <p:nvPr/>
        </p:nvSpPr>
        <p:spPr>
          <a:xfrm>
            <a:off x="7380360" y="2781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文本框 27649"/>
          <p:cNvSpPr/>
          <p:nvPr/>
        </p:nvSpPr>
        <p:spPr>
          <a:xfrm>
            <a:off x="838080" y="6462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蔺相如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: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事件能深思熟虑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随机应变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秦王不顾生死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敢于斗争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廉颇能顾全大局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忍辱退让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切以国家利益为重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因为他为维护赵国利益一再立下功劳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先后被封为上大夫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上卿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.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.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文本框 26625"/>
          <p:cNvSpPr/>
          <p:nvPr/>
        </p:nvSpPr>
        <p:spPr>
          <a:xfrm>
            <a:off x="4678560" y="1006560"/>
            <a:ext cx="42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廉颇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能服从赵王的调遣带兵奔赴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边界作好抵御秦兵的准备，使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王不敢轻举妄动，虽然计较个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得失和蔺相如闹不团结，但知错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就改，并负荆上蔺相如府上请罪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性格坦率。此后能和蔺相如一起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同心协力保卫赵国。                       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 17409" descr="将相和封面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文本框 17410"/>
          <p:cNvSpPr/>
          <p:nvPr/>
        </p:nvSpPr>
        <p:spPr>
          <a:xfrm>
            <a:off x="6347520" y="1069920"/>
            <a:ext cx="2516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将”指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廉颇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相”指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蔺相如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”的意思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___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从“和”字可以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推想出什么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?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直接连接符 47103"/>
          <p:cNvSpPr/>
          <p:nvPr/>
        </p:nvSpPr>
        <p:spPr>
          <a:xfrm>
            <a:off x="7380360" y="162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文本框 47108"/>
          <p:cNvSpPr/>
          <p:nvPr/>
        </p:nvSpPr>
        <p:spPr>
          <a:xfrm>
            <a:off x="6284520" y="3952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同心协力，保卫赵国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文本框 20481"/>
          <p:cNvSpPr/>
          <p:nvPr/>
        </p:nvSpPr>
        <p:spPr>
          <a:xfrm>
            <a:off x="2199960" y="1387440"/>
            <a:ext cx="5715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这个故事发生在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时候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,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主要讲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三个故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.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文本框 20482"/>
          <p:cNvSpPr/>
          <p:nvPr/>
        </p:nvSpPr>
        <p:spPr>
          <a:xfrm>
            <a:off x="4932000" y="141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战国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文本框 20483"/>
          <p:cNvSpPr/>
          <p:nvPr/>
        </p:nvSpPr>
        <p:spPr>
          <a:xfrm>
            <a:off x="3413160" y="2406600"/>
            <a:ext cx="25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完璧归赵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文本框 20484"/>
          <p:cNvSpPr/>
          <p:nvPr/>
        </p:nvSpPr>
        <p:spPr>
          <a:xfrm>
            <a:off x="6729840" y="24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渑池相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文本框 20485"/>
          <p:cNvSpPr/>
          <p:nvPr/>
        </p:nvSpPr>
        <p:spPr>
          <a:xfrm>
            <a:off x="220032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负荆请罪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文本框 43009"/>
          <p:cNvSpPr/>
          <p:nvPr/>
        </p:nvSpPr>
        <p:spPr>
          <a:xfrm>
            <a:off x="1811160" y="44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回答问题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文本框 55300"/>
          <p:cNvSpPr/>
          <p:nvPr/>
        </p:nvSpPr>
        <p:spPr>
          <a:xfrm>
            <a:off x="1510920" y="836640"/>
            <a:ext cx="641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99ccff"/>
                </a:solidFill>
                <a:uFillTx/>
                <a:latin typeface="Verdana"/>
                <a:ea typeface="宋体"/>
              </a:rPr>
              <a:t>完壁归赵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”这个故事的前因是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后果是                                     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直接连接符 55301"/>
          <p:cNvSpPr/>
          <p:nvPr/>
        </p:nvSpPr>
        <p:spPr>
          <a:xfrm>
            <a:off x="6877080" y="1700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直接连接符 55302"/>
          <p:cNvSpPr/>
          <p:nvPr/>
        </p:nvSpPr>
        <p:spPr>
          <a:xfrm>
            <a:off x="684360" y="2924280"/>
            <a:ext cx="81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直接连接符 55303"/>
          <p:cNvSpPr/>
          <p:nvPr/>
        </p:nvSpPr>
        <p:spPr>
          <a:xfrm>
            <a:off x="2124000" y="422100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文本框 55304"/>
          <p:cNvSpPr/>
          <p:nvPr/>
        </p:nvSpPr>
        <p:spPr>
          <a:xfrm>
            <a:off x="1680480" y="981000"/>
            <a:ext cx="608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秦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依仗强势，要骗取宝玉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文本框 55305"/>
          <p:cNvSpPr/>
          <p:nvPr/>
        </p:nvSpPr>
        <p:spPr>
          <a:xfrm>
            <a:off x="3540240" y="34354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宝玉完好无损地回到了赵国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6145"/>
          <p:cNvSpPr/>
          <p:nvPr/>
        </p:nvSpPr>
        <p:spPr>
          <a:xfrm>
            <a:off x="1066680" y="1335240"/>
            <a:ext cx="78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他理直气壮地说：“我看您并不想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交付十五个城，所以把和氏璧拿了回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来。您要是强逼我，我的脑袋和璧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一块儿撞碎在这柱子上！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文本框 39937"/>
          <p:cNvSpPr/>
          <p:nvPr/>
        </p:nvSpPr>
        <p:spPr>
          <a:xfrm>
            <a:off x="3584160" y="549360"/>
            <a:ext cx="20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下面的话可以看出蔺相如是怎样一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·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个人？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trips dir="l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15361"/>
          <p:cNvSpPr/>
          <p:nvPr/>
        </p:nvSpPr>
        <p:spPr>
          <a:xfrm>
            <a:off x="1066680" y="1335240"/>
            <a:ext cx="78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他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理直气壮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地说：“我看您并不想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交付十五个城，所以把和氏璧拿了回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来。您要是强逼我，我的脑袋和璧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一块儿撞碎在这柱子上！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文本框 38913"/>
          <p:cNvSpPr/>
          <p:nvPr/>
        </p:nvSpPr>
        <p:spPr>
          <a:xfrm>
            <a:off x="3584160" y="549360"/>
            <a:ext cx="20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下面的话可以看出蔺相如是怎样一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·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个人？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文本框 38914"/>
          <p:cNvSpPr/>
          <p:nvPr/>
        </p:nvSpPr>
        <p:spPr>
          <a:xfrm>
            <a:off x="4312800" y="573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勇敢机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文本框 38915"/>
          <p:cNvSpPr/>
          <p:nvPr/>
        </p:nvSpPr>
        <p:spPr>
          <a:xfrm>
            <a:off x="2709360" y="5772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答案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trips dir="ld"/>
    <p:sndAc>
      <p:stSnd>
        <p:snd r:embed="rId2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文本框 4098"/>
          <p:cNvSpPr/>
          <p:nvPr/>
        </p:nvSpPr>
        <p:spPr>
          <a:xfrm>
            <a:off x="1066680" y="7621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到了举行典礼那一天，蔺相如进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见了秦王，大大方方地说：“和氏璧已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经送回赵国去了。您如果有诚意的话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先把十五个城叫给我国，我国马上把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和氏璧送来，决不失信。不然，您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了我也没用，天下的人都知道秦国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从来不讲信用的！”秦王没有办法，只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得客客气气地送蔺相如回国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讨论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：将相产生矛盾的原因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廉颇很不服气，他对别人说：“我廉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攻无不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战无不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立下许多大功。他蔺相如有什么能耐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就靠一张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反而爬到我头上去了。我碰见他，得给他个下不了台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文本框 16385"/>
          <p:cNvSpPr/>
          <p:nvPr/>
        </p:nvSpPr>
        <p:spPr>
          <a:xfrm>
            <a:off x="1066680" y="7621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到了举行典礼那一天，蔺相如进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见了秦王，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 Narrow"/>
                <a:ea typeface="黑体"/>
              </a:rPr>
              <a:t>大大方方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地说：“和氏璧已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经送回赵国去了。您如果有诚意的话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先把十五个城叫给我国，我国马上把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和氏璧送来，决不失信。不然，您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了我也没用，天下的人都知道秦国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从来不讲信用的！”秦王没有办法，只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得客客气气地送蔺相如回国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文本框 36865"/>
          <p:cNvSpPr/>
          <p:nvPr/>
        </p:nvSpPr>
        <p:spPr>
          <a:xfrm>
            <a:off x="1917000" y="562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答案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文本框 36866"/>
          <p:cNvSpPr/>
          <p:nvPr/>
        </p:nvSpPr>
        <p:spPr>
          <a:xfrm>
            <a:off x="3373200" y="56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不畏强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文本框 5122"/>
          <p:cNvSpPr/>
          <p:nvPr/>
        </p:nvSpPr>
        <p:spPr>
          <a:xfrm>
            <a:off x="1890720" y="2397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 Narrow"/>
                <a:ea typeface="黑体"/>
              </a:rPr>
              <a:t>课堂练习：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文本框 5124"/>
          <p:cNvSpPr/>
          <p:nvPr/>
        </p:nvSpPr>
        <p:spPr>
          <a:xfrm>
            <a:off x="1720080" y="1844640"/>
            <a:ext cx="628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1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蔺相如之所以说这块璧有点儿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小毛病，骗回和氏璧，是因为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——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———————————————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文本框 35840"/>
          <p:cNvSpPr/>
          <p:nvPr/>
        </p:nvSpPr>
        <p:spPr>
          <a:xfrm>
            <a:off x="2874960" y="37749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蔺相如看出秦王的骗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文本框 1025"/>
          <p:cNvSpPr/>
          <p:nvPr/>
        </p:nvSpPr>
        <p:spPr>
          <a:xfrm>
            <a:off x="2694960" y="1263600"/>
            <a:ext cx="514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宋体"/>
              </a:rPr>
              <a:t>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2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 用上“之所以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……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因为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…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联系“完璧归赵”这个故事说一句话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71681"/>
          <p:cNvSpPr/>
          <p:nvPr/>
        </p:nvSpPr>
        <p:spPr>
          <a:xfrm>
            <a:off x="2651400" y="941400"/>
            <a:ext cx="503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思考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“</a:t>
            </a:r>
            <a:r>
              <a:rPr b="0" i="1" lang="zh-CN" sz="6000" spc="-1" strike="noStrike" u="sng">
                <a:solidFill>
                  <a:srgbClr val="99ccff"/>
                </a:solidFill>
                <a:uFillTx/>
                <a:latin typeface="Verdana"/>
                <a:ea typeface="宋体"/>
              </a:rPr>
              <a:t>渑池相会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”上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赵两国是打了平手，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还是分出了胜负？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文本框 66562"/>
          <p:cNvSpPr/>
          <p:nvPr/>
        </p:nvSpPr>
        <p:spPr>
          <a:xfrm>
            <a:off x="1465920" y="1125360"/>
            <a:ext cx="6838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99ccff"/>
                </a:solidFill>
                <a:uFillTx/>
                <a:latin typeface="Verdana"/>
                <a:ea typeface="宋体"/>
              </a:rPr>
              <a:t>渑池相会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”这个故事的前因是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，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后果是                            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直接连接符 66563"/>
          <p:cNvSpPr/>
          <p:nvPr/>
        </p:nvSpPr>
        <p:spPr>
          <a:xfrm>
            <a:off x="6877080" y="1700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直接连接符 66564"/>
          <p:cNvSpPr/>
          <p:nvPr/>
        </p:nvSpPr>
        <p:spPr>
          <a:xfrm>
            <a:off x="684360" y="2997360"/>
            <a:ext cx="81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直接连接符 66565"/>
          <p:cNvSpPr/>
          <p:nvPr/>
        </p:nvSpPr>
        <p:spPr>
          <a:xfrm>
            <a:off x="2124000" y="4149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文本框 66566"/>
          <p:cNvSpPr/>
          <p:nvPr/>
        </p:nvSpPr>
        <p:spPr>
          <a:xfrm>
            <a:off x="1572840" y="981000"/>
            <a:ext cx="5950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秦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约赵王在渑池相会，想占赵国便宜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文本框 66567"/>
          <p:cNvSpPr/>
          <p:nvPr/>
        </p:nvSpPr>
        <p:spPr>
          <a:xfrm>
            <a:off x="2871720" y="3435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秦王吃亏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1"/>
                            </p:stCondLst>
                            <p:childTnLst>
                              <p:par>
                                <p:cTn id="9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文本框 67588"/>
          <p:cNvSpPr/>
          <p:nvPr/>
        </p:nvSpPr>
        <p:spPr>
          <a:xfrm>
            <a:off x="2449440" y="173664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“渑池相会”可以看出蔺相如是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一个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的人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文本框 67589"/>
          <p:cNvSpPr/>
          <p:nvPr/>
        </p:nvSpPr>
        <p:spPr>
          <a:xfrm>
            <a:off x="4198320" y="27874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勇敢、随机应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65539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72" name="文本框 65540"/>
          <p:cNvSpPr/>
          <p:nvPr/>
        </p:nvSpPr>
        <p:spPr>
          <a:xfrm>
            <a:off x="1695960" y="566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3300"/>
                </a:solidFill>
                <a:uFillTx/>
                <a:latin typeface="Verdana"/>
                <a:ea typeface="华文行楷"/>
              </a:rPr>
              <a:t>负荆请罪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70657"/>
          <p:cNvSpPr/>
          <p:nvPr/>
        </p:nvSpPr>
        <p:spPr>
          <a:xfrm>
            <a:off x="160020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文本框 70658"/>
          <p:cNvSpPr/>
          <p:nvPr/>
        </p:nvSpPr>
        <p:spPr>
          <a:xfrm>
            <a:off x="1465920" y="620640"/>
            <a:ext cx="683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99ccff"/>
                </a:solidFill>
                <a:uFillTx/>
                <a:latin typeface="Verdana"/>
                <a:ea typeface="宋体"/>
              </a:rPr>
              <a:t>负荆请罪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”这个故事的前因是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，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后果是                            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直接连接符 70659"/>
          <p:cNvSpPr/>
          <p:nvPr/>
        </p:nvSpPr>
        <p:spPr>
          <a:xfrm>
            <a:off x="7164360" y="119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直接连接符 70660"/>
          <p:cNvSpPr/>
          <p:nvPr/>
        </p:nvSpPr>
        <p:spPr>
          <a:xfrm>
            <a:off x="2268360" y="3645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文本框 70661"/>
          <p:cNvSpPr/>
          <p:nvPr/>
        </p:nvSpPr>
        <p:spPr>
          <a:xfrm>
            <a:off x="1475280" y="549360"/>
            <a:ext cx="62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    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廉颇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看到蔺相如职位比自己高，很不服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文本框 70662"/>
          <p:cNvSpPr/>
          <p:nvPr/>
        </p:nvSpPr>
        <p:spPr>
          <a:xfrm>
            <a:off x="2943000" y="2859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负荆请罪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1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文本框 69631"/>
          <p:cNvSpPr/>
          <p:nvPr/>
        </p:nvSpPr>
        <p:spPr>
          <a:xfrm>
            <a:off x="1929600" y="981000"/>
            <a:ext cx="49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思考：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“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完璧归赵”、“渑池相会”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与“负荆请罪”之间有什么联系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文本框 69632"/>
          <p:cNvSpPr/>
          <p:nvPr/>
        </p:nvSpPr>
        <p:spPr>
          <a:xfrm>
            <a:off x="599760" y="399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答案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文本框 69633"/>
          <p:cNvSpPr/>
          <p:nvPr/>
        </p:nvSpPr>
        <p:spPr>
          <a:xfrm>
            <a:off x="3054960" y="3919680"/>
            <a:ext cx="462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三个故事各有情节，但又紧密联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渑池相会”是“完璧归赵” 的发展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“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完璧归赵”和“渑池相会”的结果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 “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负荆请罪” 的起因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文本框 68607"/>
          <p:cNvSpPr/>
          <p:nvPr/>
        </p:nvSpPr>
        <p:spPr>
          <a:xfrm>
            <a:off x="1649160" y="907920"/>
            <a:ext cx="59914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思考：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蔺相如对廉颇的傲慢无礼是怎么做的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他为什么要这样做？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文本框 68608"/>
          <p:cNvSpPr/>
          <p:nvPr/>
        </p:nvSpPr>
        <p:spPr>
          <a:xfrm>
            <a:off x="723600" y="3848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答案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文本框 68609"/>
          <p:cNvSpPr/>
          <p:nvPr/>
        </p:nvSpPr>
        <p:spPr>
          <a:xfrm>
            <a:off x="3116160" y="377496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避让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蔺相如避让廉颇并非害怕他，而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为了国家利益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廉颇的话，站在蔺相如的角度看，还那么有道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文本框 77823"/>
          <p:cNvSpPr/>
          <p:nvPr/>
        </p:nvSpPr>
        <p:spPr>
          <a:xfrm>
            <a:off x="174312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文本框 77824"/>
          <p:cNvSpPr/>
          <p:nvPr/>
        </p:nvSpPr>
        <p:spPr>
          <a:xfrm>
            <a:off x="2321280" y="1736640"/>
            <a:ext cx="557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“负荆请罪”可以看出蔺相如是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一个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的人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文本框 77825"/>
          <p:cNvSpPr/>
          <p:nvPr/>
        </p:nvSpPr>
        <p:spPr>
          <a:xfrm>
            <a:off x="3283200" y="2940120"/>
            <a:ext cx="36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   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以国家利益为重，顾大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识大体，胸怀宽广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直接连接符 77826"/>
          <p:cNvSpPr/>
          <p:nvPr/>
        </p:nvSpPr>
        <p:spPr>
          <a:xfrm>
            <a:off x="2050920" y="350028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1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3"/>
                            </p:stCondLst>
                            <p:childTnLst>
                              <p:par>
                                <p:cTn id="146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3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文本框 75775"/>
          <p:cNvSpPr/>
          <p:nvPr/>
        </p:nvSpPr>
        <p:spPr>
          <a:xfrm>
            <a:off x="1912320" y="981000"/>
            <a:ext cx="5142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思考：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廉颇为什么向蔺相如负荆请罪？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文本框 75776"/>
          <p:cNvSpPr/>
          <p:nvPr/>
        </p:nvSpPr>
        <p:spPr>
          <a:xfrm>
            <a:off x="1023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文本框 75777"/>
          <p:cNvSpPr/>
          <p:nvPr/>
        </p:nvSpPr>
        <p:spPr>
          <a:xfrm>
            <a:off x="1952280" y="2997360"/>
            <a:ext cx="481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从“负荆请罪”可以看出廉颇是一个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         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的人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文本框 75778"/>
          <p:cNvSpPr/>
          <p:nvPr/>
        </p:nvSpPr>
        <p:spPr>
          <a:xfrm>
            <a:off x="1599480" y="40640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勇于改过，以国利益为重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74751"/>
          <p:cNvSpPr/>
          <p:nvPr/>
        </p:nvSpPr>
        <p:spPr>
          <a:xfrm>
            <a:off x="2506320" y="1258920"/>
            <a:ext cx="4965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   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作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   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复述“负荆请罪”这个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故事给家长听。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读一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蔺相如说：“秦王我都不怕，会怕廉将军吗？大家知道，秦王不敢进攻我们赵国，就因为武有廉颇，文有蔺相如。如果我们两闹不和，就会削弱赵国的力量，秦国必然乘机来打我们。我所以避着廉将军，为的是我们赵国呀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讨论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事实上，廉颇没有当着蔺相如的面说这番话的，而蔺相如也无法对廉颇当面说清楚。这该怎么办呢？蔺相如有几种对策？我们分析下。这些方法的优点，缺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讨论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廉颇知道自己错了，他可以有哪些做法？如果是你，你会怎么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廉颇和蔺相如闹了那么大的矛盾，为什么还能和好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ff0000"/>
                </a:solidFill>
                <a:latin typeface="Arial"/>
              </a:rPr>
              <a:t>总结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“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将相和”的故事给了你什么样的启发？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家和万事兴，国家也是同样，一个国家既要有骁勇善战的武将，又要有能言善变的文官，大家团结一致，国家才能兴旺发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ff0000"/>
                </a:solidFill>
                <a:latin typeface="Arial"/>
              </a:rPr>
              <a:t>小练笔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同学们，学习了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将相和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这课，我们了解了将相之间由和到不和又到和好的经过，现在，拿起你的笔，通过一件事，写写你和同学，朋友之间团结友爱的故事，注意要写清楚前因后果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2:41:49Z</dcterms:created>
  <dc:creator/>
  <dc:description/>
  <dc:language>en-US</dc:language>
  <cp:lastModifiedBy>万润仪器贸易公司</cp:lastModifiedBy>
  <dcterms:modified xsi:type="dcterms:W3CDTF">2020-08-24T06:32:56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